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DCFF901-AF5F-4739-B154-A98A884E2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6126-89BF-472C-97EA-B033EA19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D28C-C7B6-4D51-862F-509438A1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D846-F6CD-4F2E-A1EF-E997D592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26D1-FC92-4123-ACA1-D6246B8E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B040-EE25-4A6E-81B6-EAF0ACA0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81A1-4B47-4E04-A72A-2EBD77FF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2370-AB32-4946-88CF-9ED29F2E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129C-C3B6-47BD-8287-912FE5FD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AD93-45AE-431E-8672-8F419AA1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7455-3873-4AE7-B74B-02151067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09C8-1C1F-4BF5-8F03-85A3A189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BD02-1D67-4387-A736-3257BB05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0633-A57C-4B54-9A57-E3862773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BDAC-560B-4F38-94AE-E171F0FA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0F96-B3D7-4FBC-81A0-4F67AE34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EF79-B005-4F02-90E4-31258F38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85E8-B792-4DC4-9B5E-502F7635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414C-6F97-4347-9D43-A7234CEB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13A2-34B0-4554-B5A0-803DB3B8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F052-F7C8-449D-8BDF-F1A91871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A064-06B4-4386-9DAE-324215F1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CB20-C411-464B-B24C-10299B8D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B857-9D40-48A3-B00A-56F3ACB3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92EE-ABDF-4344-BBD7-0A47ADCC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6EE6-E70F-43E8-ADE6-8F4356DC1C6D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615C-61B1-4A1F-B853-1EEF7C98ABCC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4E33-FE45-4C38-A5E7-B0E5E2CDBB53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00296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Quadratic and Trigonometric Relations</a:t>
            </a: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Session 1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4024440"/>
            <a:ext cx="5715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99bd"/>
                </a:solidFill>
                <a:latin typeface="Arial"/>
              </a:rPr>
              <a:t>Summer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99bd"/>
                </a:solidFill>
                <a:latin typeface="Arial"/>
              </a:rPr>
              <a:t>Augus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John Rod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Turn and Tal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905120"/>
            <a:ext cx="8399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rner Share:  Find three new people to work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080" indent="-271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estions to consid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How easy / difficult was it to assign an overall expectation to a big idea? 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Are the overall expectations sufficient to get at the big ideas?  Why or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What role do students’ prior experiences play in the development of their understanding of the big ide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524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What challenges might you as a teacher face when providing students with learning opportunities that focus on developing understanding of the big ideas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Big Ideas of Quadratic Relations, Q1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920" y="1905120"/>
            <a:ext cx="8497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Algebraic reasoning can help you to describe and analyze generalized quadratic relations and change using words and symbols.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Big Ideas of Quadratic Relations, Q2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 representations of quadratic relations highlight different characteristics and serve different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Big Ideas of Quadratic Relations, Q3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920" y="1905120"/>
            <a:ext cx="8497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Comparing quadratic relations with other relations (e.g. linear) provides insight into the defining characteristics of a quadratic re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Big Ideas of Quadratic Relations, Q4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Limited information about a quadratic relation can sometimes, but not always, reveal other information about that re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of Trigonometric Relations, T1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Trigonometric relations can help you to describe and analyze periodic relationships and change using words and symb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of Trigonometric Relations, T2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trigonometric function can be represented in multiple ways (numerically, graphically, geometrically and algebraically) and each representation highlights different characteristics or behaviours, and can serve different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of Trigonometric Relations, T3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When comparing trigonometric relations to other relations, the  periodic nature becomes a defining characteristi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</a:rPr>
              <a:t>Big Ideas of Trigonometric Relations, T4</a:t>
            </a:r>
            <a:endParaRPr b="0" lang="en-US" sz="36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920" y="1905120"/>
            <a:ext cx="8426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mited information about a periodic relationship can sometimes, but not always, reveal other information about that relation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20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Match Me Up!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rs, match each question to the big idea that it is most likely to elic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923080" y="1332000"/>
            <a:ext cx="3198600" cy="24001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elcom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us your name and Board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one thing that you hope to get out of this breakout session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one success that you have had teaching rela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761760"/>
            <a:ext cx="8208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ction:  Match Me Up!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 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Share:  Questions to consid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ich questions were easiest / most difficult to map?  Why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857160" indent="-285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common elements are evident in the questions that help students develop understanding of the big ideas?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d469b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lect a Big Idea and write your own question (for Quadratic or Trig relations) that gets at that Big Id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member to label the Big Idea on your stick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rite your name on the ba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it on your way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d469b"/>
                </a:solidFill>
                <a:latin typeface="Arial"/>
              </a:rPr>
              <a:t>Group Norm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isten a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peak fearles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l electronic communication devices turned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uffering is op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ore the Big Ideas of Quadratic and Trigonometric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connections between the overall expectations and the big ideas of Quadratic and Trigonometric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ing sense of Big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Four Corne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31768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ur big ideas for quadratic relations and four big ideas for trigonometric relations are posted, one on each side of each corner of the roo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Four Corners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173664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 your table, you will find two envelo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ach envelope contains overall expectations from various grade 10, 11 and 12 courses related to quadratic relations OR trigonometric relations.  Select a partner. Choose an envelope and then select one expectation (so each pair will have two expectations) from that envel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Four Corners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73664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th your partner, walk around the room and discuss the Big Ideas through the lens of your expec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th your expectation, go to the corner that it best connects to. (You and your partner may need to separate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Four Corners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90512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your corner, discuss your rationale for matching the overall expectation to that big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 may change your corner if your discussion made you rethink your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n you are ready, post your overall expectation under the big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Minds On:  Four Corners </a:t>
            </a:r>
            <a:r>
              <a:rPr b="0" lang="en-US" sz="2400" spc="-1" strike="noStrike">
                <a:solidFill>
                  <a:srgbClr val="0d469b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90512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rner Sh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How are the expectations for quadratic and trigonometric relations the same for that Big Idea? Diffe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allery 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Peel District School Board</cp:lastModifiedBy>
  <dcterms:modified xsi:type="dcterms:W3CDTF">2009-08-25T18:41:00Z</dcterms:modified>
  <cp:revision>123</cp:revision>
  <dc:subject/>
  <dc:title>Math GAINS 2008-09</dc:title>
</cp:coreProperties>
</file>